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8AD0-585F-4677-8B8C-20D8F5E89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74DC-68E5-4908-BFD4-F9805D5005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28D0-954E-4D22-8046-FB87CB6B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158F-1BA1-42D2-949A-2F9DE7DD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A9A6-D7CF-40B9-858D-84B232A92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7EDF-6784-4EAC-968E-17253355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64FE-6265-47AE-97EC-E29F3237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0BCF-FDA1-412E-A215-C39C6728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0B4D-B1F2-40ED-836C-D8F4EB5D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8E93-E72E-4EE0-84F4-BE302CFB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7526-1F15-415B-8430-AAA3C2FA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D1E0-4B89-4FFE-9705-B13C2FF8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0A29-0D72-478E-8C60-A62BB006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A80F-CDCF-428D-8B36-2A827F5F1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ADB1-4C61-4000-AD2E-8C0054304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МАСТЕР АКАДЕМСКЕ СТУДИЈЕ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Мастер менаџмент у систему здравствене заштите</a:t>
            </a:r>
            <a:br>
              <a:rPr sz="2400"/>
            </a:b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ЛИТИКА И СИСТЕМ ЗДРАВСТВЕНЕ ЗАШТИТЕ</a:t>
            </a:r>
            <a:br>
              <a:rPr sz="2400"/>
            </a:br>
            <a:br>
              <a:rPr sz="2400"/>
            </a:b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КОНЦЕПТ КВАЛИТЕТА ЖИВОТА</a:t>
            </a:r>
            <a:br>
              <a:rPr sz="2400"/>
            </a:b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Наставна јединица бр. 8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валитет живота корисника здравственог система. Методе за одређивање квалитета живота.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оц. др Оливера Миловановић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941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457200" y="609480"/>
            <a:ext cx="785664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Врсте трошкова у фармакоекономиј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ректни – трошкови које фонд здравственог осигурања директно плаћа (лекови, плате здравствених радника, материјални трошкови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иректни – трошкови које плаћа пацијент или друштво (губитак радних дана, губитак продуктивности, итд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ухватљиви (енгл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angibl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– бол, страх, забринутост пацијента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Врсте трошкова у фармакоекономиј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иксни трошкови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рошкови који се не мењају са променом количине услуга или производа у краћем временском периоду (типично током 1 годин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аријабилни трошкови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ошкови који се мењају са променама у обиму услу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Врсте трошкова у фармакоекономиј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ошкови могућност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Opportunity cost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изгубљена корист ако се изабере једна терапија уместо друг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сновни појмови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Корист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(енгл.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enefit</a:t>
            </a:r>
            <a:r>
              <a:rPr b="1" lang="sr-R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рене "“природним"” јединицама (нпр. број спречених случајева шлога, број залечених улкуса, број излечених прелома потколенице, итд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рене јединицама “"корисности"” (енгл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tility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 за пацијента, тј. колико се при преласку из једног стања здравља у друго мења задовољство пацијента, односно његов осећај благостања. “Корисност” се обично изражава квалитетом живо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Основни појмови у фармакоекономиј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идружена доб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дружена добит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ociated economic benefit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- је добит коју има друштво, изражено у новцу, као последицу оздрављења пацијен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пр. услед повратка на посао, друштво добија кроз вредност коју бивши болесник сада ства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ошкови и добити у временској перспекти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неке третмане се мора одмах инвестирати велика сума (нпр. операција на коронарним артеријама), док код других улагање траје више година. Када се упоређују трошкови таквих третмана треба узети у обзир како се трошкови мењају у времену (нпр. урачунати инфлациј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Квалитет живота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(engl. quality of lif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валитет живота обухват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к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цијалн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моционалн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аспекте стања пацијен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 је перцепција појединца његовог положаја у животу, у контексту културних и вредносних система средине у којој живи, као и у вези са његовим циљевима, очекивањима, стандардима и бриг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о се мери квалитет живота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ри се помоћу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струмена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који се мог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елити на два начи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начину мерењ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Ф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ЕК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специфичности за одређену болес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НЕРИЧ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ЕЦИФИЧ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офи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фили су заправо скале које оцењују више аспеката квалитета живота посебно (нпр. социјална интеракција, покретљивост, способност да се пацијент брине сам о себи, итд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јпознатије скале за мерење профила су: Профил утицаја болести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l. Sickness Impact Profil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F-3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Нотингемски профил здравља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tingham Health Profil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енерички профили обично имају следеће делов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изичко функционисање (10 питањ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граничења улоге/физичка (4 питањ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граничења улоге/емоционална (3 питањ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цијално функционисање (2 питањ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моционално благостање (5 питањ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нергија/замор (4 питањ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ол (2 питањ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пшта перцепција здравља (5 питањ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нтр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кономија – наука о томе како друштво одлучује шта ће производити, како ће то чинити и за ко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дравствена економија – је економија примењена на здравство. Она третира здравствене услуге као и остале услуге на тржишту, уз уважавање специфич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DQOL-S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пецифични профил за квалитет живота код обољења бубрег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имптоми/проблеми (12 питањ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Ефекти болести бубрега (8 питањ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Оптерећење бубрежним обољењем (4 питањ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Радни статус (2 питањ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огнитивна функција (3 питањ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валитет социјалне интеракције (3 питањ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ексуална функција (2 питањ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ан (4 питањ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ндекс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екси своде целокупан квалитет живота н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једну вреднос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обично на скали од 0 (смрт или стање без свести) до 1 (пуно здравље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нас се од индекса највише користе године живота кориговане за квалитет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Quality Adjusted Life Years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које се добијају када се број година живота помножи са квалитетом сваке године (израженим бројем између 0 и 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Генерички и специфични инструмен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нерички инструменти се могу користити за мерење квалитета живота код већине боле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ецифични инструменти се користе за мерење квалитета живота код одређених болести, популација или функциј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Врсте фармакоекономских анализ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нализа минимизирања трошкова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Cost Minimisation Analysis)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примењује се када је исход две алтернативне терапије ИСТИ, па се само упоређује њихова цен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нализа трошкова/клиничког ефекта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Cost Effectiveness Analysis)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примењује се у ситуацијама када се исход два алтернативна третмана мери ИСТИМ “природним” ЈЕДИНИЦАМА (нпр. број спречених шлогова), а трошкови се мере новце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Врсте фармакоекономских анализ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</a:rPr>
              <a:t>Анализа трошкова/корисности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Cost Utility Analysis)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поређује се “корисност” два различита третмана (често различитих болести), узимајући у обзир њихове трошкове изражене у новц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рисност” се изражава најчешће добијеним годинама живота које су кориговане за квалите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*Quality Adjusted Life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Врсте фармакоекономских анали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нализа Трошкови/добит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Cost Benefit Analysis)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израчунава се придружена добит сваког од третмана (изражено у новцу) и упоређује са њиховим трошкови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о је могуће упоређивати потпуно различите третмане (“вредност за новац”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Перспектива добијених резултата у фармакоекономиј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Резултати фармакоекономске анализе могу јако варирати у зависности од тачке гледишта. Нпр. фонду здравственог осигурања неће одговарати употреба врло скупог лека који ће потпуно опоравити пацијента, али друштву као целини хоће, јер се смањују трошкови његове неге и издржавањ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Три основне перспективе: институционална, друштвена и индивидуал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ФАРМАКОЕКОНОМИ</a:t>
            </a:r>
            <a:r>
              <a:rPr b="0" lang="sr-Latn-RS" sz="4000" spc="-1" strike="noStrike">
                <a:solidFill>
                  <a:srgbClr val="000000"/>
                </a:solidFill>
                <a:latin typeface="Calibri"/>
              </a:rPr>
              <a:t>ЈА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ДОМЕН И ЗН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А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армакоекономија је на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на дисципл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која, применом економс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анал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тичк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метода, пореди улагања са добијеним исходима на пољу здравствених услуг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Њен циљ је најрационалнија могућа расподела расположивих ресурса у здравств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Историјат 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Током 60-тих година у развијеним друштвима први пут примећен тренд да сваке године све већи део бруто националног доходка се троши на здравствену заштиту становништва.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Тада се јављају прва систематска истраживања потрошње средстава и броја пружених услуга у великим клиничким центрима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сторијат фармакоеконом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Основне концепте су први увели 1978. годин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McGhan, Rowland i Bootm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1979. годин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Bootm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је извео прву анализу трошкови/доби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cost/benefit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дозирања аминогликози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Термин “ФАРМАКОЕКОНОМИЈА је 1986. године уве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ownse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што фармакоеконом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Великој Британији се у 1994. години издвајало за лекове 65 фунти по становнику, или 8.9 рецепата по становни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Србији се у 2001. години издвајало за лекове 22 америчка долара по становнику, а у 2011. 144 америчка долара по становник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alibri"/>
              </a:rPr>
              <a:t>ДЕФИНИЦИЈА ФАРМАКОЕКОНОМ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Фармакоекономија је наука која проучава како људи и друштво одлучују да употребе ограничене ресурсе (који су могли да се употребе за нешто друго) за производњу лекова и потрошног материјала и како их расподељују људима и друштвеним групама да би се добило на квантитету и квалитету живо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на анализира трошкове и користи побољшавања метода расподеле ресурса у производњи, дистрибуцији и потрошњи лекова и потрошног материја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фикасност, клинички ефекат и стварна корист од л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Ефикасно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fficacy)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 ли лечење постиже нешто, тј. да ли "“ради”"? Процењује се у клиничким студиј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Клинички ефека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linical effectiveness)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епен у коме лек постиже ефекат у клиничкој прак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Стварна корист од лек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fficiency)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 ли је лек вредан цене коју за њега плаћају појединци и друштво? Процењује се фармакоекономским студиј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ефинисање основних појм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Укупна вредност свих ресурса који се утроше у производњи робе или услуге представља њихове трошков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engl. cos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Цена је збир трошкова робе или услуге плус профи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(engl. charge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2T07:19:51Z</dcterms:created>
  <dc:creator>Admin</dc:creator>
  <dc:description/>
  <dc:language>en-US</dc:language>
  <cp:lastModifiedBy>Ucionica</cp:lastModifiedBy>
  <dcterms:modified xsi:type="dcterms:W3CDTF">2019-02-10T11:31:09Z</dcterms:modified>
  <cp:revision>14</cp:revision>
  <dc:subject/>
  <dc:title>Интегрисане академске студије фармације  Д03 ФАРМАКОЕКОНОМИЈА   Увод у фармакоекономију  Историјат и теоретске основе</dc:title>
</cp:coreProperties>
</file>